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64D-AE3B-43C7-ABAA-A4F7F42F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D6F-9FC2-48F5-B991-6022DA1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D12-A76E-438D-8CD0-1B534BF3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F5F-18FA-4F90-9F7F-73816FB2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EF5-C4E0-4B30-9A70-DC5AC29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FC4-B433-4D5B-82B4-F2DAF449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2DA-1842-4A2B-968A-F5CCC14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9C3-233B-433C-B2FB-23299EA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CA3-E5B9-4D0E-B9DB-D1B0212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84A-5B6A-42C8-B344-21D787E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38A-BEB6-420C-BCE3-945B1BD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487-817D-48C0-B15B-74934E9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D9C-851B-4006-873B-D6BB5B62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dreamstime.com/aladdin-s-lamp-thumb7826153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gif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0"/>
            <a:ext cx="441972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d4cd44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d4cd44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Arabian Nights </a:t>
            </a:r>
            <a:endParaRPr b="0" lang="en-US" sz="1800" spc="1" strike="noStrike">
              <a:ln w="12600">
                <a:solidFill>
                  <a:srgbClr val="d4cd44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276640" cy="215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4572000"/>
            <a:ext cx="9014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228600" y="3962520"/>
            <a:ext cx="424800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724280" y="3962520"/>
            <a:ext cx="3195720" cy="239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3200400" y="1523880"/>
            <a:ext cx="2590920" cy="235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6095880" y="1600200"/>
            <a:ext cx="2791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14:52Z</dcterms:created>
  <dc:creator> </dc:creator>
  <dc:description/>
  <dc:language>en-US</dc:language>
  <cp:lastModifiedBy> </cp:lastModifiedBy>
  <dcterms:modified xsi:type="dcterms:W3CDTF">2010-02-05T19:31:35Z</dcterms:modified>
  <cp:revision>3</cp:revision>
  <dc:subject/>
  <dc:title>Slide 1</dc:title>
</cp:coreProperties>
</file>